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0BC-C6CC-44C9-9A4E-DA95F29C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249-D0C8-494B-BFDA-0F06E8A3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F1E-F27D-4620-9999-5039D070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00C-1EAD-4377-8BE0-D21298BE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7EB2-1EFE-429D-A4CB-2CA56E5A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2714-1594-4CA9-8808-7ED80EE7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F37A-DB1B-4387-B23D-252BF789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FA38-52D9-4572-9EDC-76F07C23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2418-A952-471D-AF29-1913DDEA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1F19-285C-432D-A1E1-4181C155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F191-677D-4419-A14F-16838B88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03C-50FD-4625-AE83-309CC8BA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23B5-9437-43E0-8BCB-CF4ED286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74F4-96EE-412E-947A-0A59571C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033E-E8F3-4F8E-8320-AAF3BBAA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C873-F404-494A-933C-5E88331D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0E6D-0D89-446F-B0D6-8D076DA9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8931-8AE8-438A-BDC7-6A466F50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97A29-F199-4DEE-8F34-4FCBA77D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1571-1E31-4088-9CAD-DB2500BB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AB749-E16A-4879-8D7A-D13ACA62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B5922-6016-4690-B793-034BCAEA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B59-E2A0-4037-B95C-72E291B7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CA4F1-D769-457E-B0EA-8E8B0914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96E57-3E14-48C6-9756-F65E42BC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2A59-16D2-446F-AE89-09611376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E136-645F-4993-84D9-5D964765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1F93-4DCD-4338-8521-9F682D28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FA0CF-8D49-4EE8-8081-BA541472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3C9DE-9D69-4FD0-A0F4-47BDCEEF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2C82D-6831-4408-B0C5-A9241DAD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C9B40-7210-4B61-92C7-733CFA6B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AC4B9-64BE-4CEB-B836-E343C691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2BC-47ED-4F5B-A7E6-D1327935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C15D8-68E7-440F-A1C4-4C5735A5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50998-E955-4420-AD2B-80F80826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66F60-01C5-4EF3-B73D-353DA6E8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A85D3-2053-4A05-ACB5-8C54B5AB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C348A-E484-4612-AD5D-8365975C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E57D9-3F7C-4978-AA57-8877ABB6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F6CFC-2F8F-445B-AE5B-7110AEAC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6218F-063F-4E7D-A8E2-015B730B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81845-B0ED-43C7-9A68-32D33006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773-6274-4D83-A2D6-D250B2D3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09E-EF4D-42EB-8204-FA22CD72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C84-11C2-4604-A096-285C2042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D4B-1A2C-49B5-9187-710B11BA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3A4-9D4F-4F12-9C88-5A881F89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C634-64B0-4CF3-8B5B-81FA3E4B2A5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60D5-B4E1-46DB-8CD1-929A43B6FE39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7443-4F3E-44D9-B8FB-51A7BA05AD68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7F2F-E362-47E4-8A1E-D602107188A8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oject EUR-EMS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Projects  within the projec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Maths develop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orld Cup Pro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cience develop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eaching Models Pro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Environmental science/Outdoor educ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Education business and science and technology developmen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rampolin’ Initia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utomation Region’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ork Related Village Projec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nterprise and Business Challenge D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University co-operation in initial and in-service training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University co-operation in research and action research activiti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-TEAM Pro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Inter-school co-ope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yedean/Ronnbyskol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eer Park/St Ilians skola – linked to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owell’s/… (primar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Bussage/Ronnbyskolan (primar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omas Keble/Lindboskol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New possibilities 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We have not yet thought of…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9:23:58Z</dcterms:created>
  <dc:creator> </dc:creator>
  <dc:description/>
  <dc:language>en-US</dc:language>
  <cp:lastModifiedBy>MARTIN WHITTLE</cp:lastModifiedBy>
  <dcterms:modified xsi:type="dcterms:W3CDTF">2010-03-08T18:11:32Z</dcterms:modified>
  <cp:revision>13</cp:revision>
  <dc:subject/>
  <dc:title>Maths developments</dc:title>
</cp:coreProperties>
</file>